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32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46.wmf" ContentType="image/x-wmf"/>
  <Override PartName="/ppt/media/CAMERA.WAV" ContentType="audio/x-wav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doorbl07.wav" ContentType="audio/x-wav"/>
  <Override PartName="/ppt/media/image41.wmf" ContentType="image/x-wmf"/>
  <Override PartName="/ppt/media/image40.wmf" ContentType="image/x-wmf"/>
  <Override PartName="/ppt/media/image30.wmf" ContentType="image/x-wmf"/>
  <Override PartName="/ppt/media/child%20yikes.wav" ContentType="audio/x-wav"/>
  <Override PartName="/ppt/media/WHOOSH.WAV" ContentType="audio/x-wav"/>
  <Override PartName="/ppt/media/image79.wmf" ContentType="image/x-wmf"/>
  <Override PartName="/ppt/media/image29.wmf" ContentType="image/x-wmf"/>
  <Override PartName="/ppt/media/image94.wmf" ContentType="image/x-wmf"/>
  <Override PartName="/ppt/media/image27.wmf" ContentType="image/x-wmf"/>
  <Override PartName="/ppt/media/image92.wmf" ContentType="image/x-wmf"/>
  <Override PartName="/ppt/media/image25.wmf" ContentType="image/x-wmf"/>
  <Override PartName="/ppt/media/image90.wmf" ContentType="image/x-wmf"/>
  <Override PartName="/ppt/media/image24.wmf" ContentType="image/x-wmf"/>
  <Override PartName="/ppt/media/kid%20yeah.wav" ContentType="audio/x-wav"/>
  <Override PartName="/ppt/media/image23.wmf" ContentType="image/x-wmf"/>
  <Override PartName="/ppt/media/image26.wmf" ContentType="image/x-wmf"/>
  <Override PartName="/ppt/media/image91.wmf" ContentType="image/x-wmf"/>
  <Override PartName="/ppt/media/slider22.wav" ContentType="audio/x-wav"/>
  <Override PartName="/ppt/media/image33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yabba-dabba-do.wav" ContentType="audio/x-wav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CLAP.WAV" ContentType="audio/x-wav"/>
  <Override PartName="/ppt/media/image5.wmf" ContentType="image/x-wmf"/>
  <Override PartName="/ppt/media/image17.wmf" ContentType="image/x-wmf"/>
  <Override PartName="/ppt/media/image82.wmf" ContentType="image/x-wmf"/>
  <Override PartName="/ppt/media/LASER.WAV" ContentType="audio/x-wav"/>
  <Override PartName="/ppt/media/image88.wmf" ContentType="image/x-wmf"/>
  <Override PartName="/ppt/media/image14.wmf" ContentType="image/x-wmf"/>
  <Override PartName="/ppt/media/image2.wmf" ContentType="image/x-wmf"/>
  <Override PartName="/ppt/media/image34.wmf" ContentType="image/x-wmf"/>
  <Override PartName="/ppt/media/image57.wmf" ContentType="image/x-wmf"/>
  <Override PartName="/ppt/media/image20.wmf" ContentType="image/x-wmf"/>
  <Override PartName="/ppt/media/image56.wmf" ContentType="image/x-wmf"/>
  <Override PartName="/ppt/media/zipby102.wav" ContentType="audio/x-wav"/>
  <Override PartName="/ppt/media/highchime.wav" ContentType="audio/x-wav"/>
  <Override PartName="/ppt/media/image66.wmf" ContentType="image/x-wmf"/>
  <Override PartName="/ppt/media/zapbig0g.wav" ContentType="audio/x-wav"/>
  <Override PartName="/ppt/media/image63.wmf" ContentType="image/x-wmf"/>
  <Override PartName="/ppt/media/image59.wmf" ContentType="image/x-wmf"/>
  <Override PartName="/ppt/media/image22.wmf" ContentType="image/x-wmf"/>
  <Override PartName="/ppt/media/image62.wmf" ContentType="image/x-wmf"/>
  <Override PartName="/ppt/media/image61.wmf" ContentType="image/x-wmf"/>
  <Override PartName="/ppt/media/caralarmoff.wav" ContentType="audio/x-wav"/>
  <Override PartName="/ppt/media/image64.wmf" ContentType="image/x-wmf"/>
  <Override PartName="/ppt/media/image65.wmf" ContentType="image/x-wmf"/>
  <Override PartName="/ppt/media/image67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95.wmf" ContentType="image/x-wmf"/>
  <Override PartName="/ppt/media/image89.wmf" ContentType="image/x-wmf"/>
  <Override PartName="/ppt/media/image52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8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image31.wmf" ContentType="image/x-wmf"/>
  <Override PartName="/ppt/media/image55.wmf" ContentType="image/x-wmf"/>
  <Override PartName="/ppt/media/image54.wmf" ContentType="image/x-wmf"/>
  <Override PartName="/ppt/media/CASHREG.WAV" ContentType="audio/x-wav"/>
  <Override PartName="/ppt/media/image53.wmf" ContentType="image/x-wmf"/>
  <Override PartName="/ppt/media/image51.wmf" ContentType="image/x-wmf"/>
  <Override PartName="/ppt/media/GUNSHOT.WAV" ContentType="audio/x-wav"/>
  <Override PartName="/ppt/media/image77.wmf" ContentType="image/x-wmf"/>
  <Override PartName="/ppt/media/DRIVEBY.WAV" ContentType="audio/x-wav"/>
  <Override PartName="/ppt/media/image28.wmf" ContentType="image/x-wmf"/>
  <Override PartName="/ppt/media/image93.wmf" ContentType="image/x-wmf"/>
  <Override PartName="/ppt/media/byipee04.wav" ContentType="audio/x-wav"/>
  <Override PartName="/ppt/media/children%20yeah.wav" ContentType="audio/x-wav"/>
  <Override PartName="/ppt/media/EXPLODE.WAV" ContentType="audio/x-wav"/>
  <Override PartName="/ppt/media/image1.wmf" ContentType="image/x-wmf"/>
  <Override PartName="/ppt/media/image13.wmf" ContentType="image/x-wmf"/>
  <Override PartName="/ppt/media/hzipup01.wav" ContentType="audio/x-wav"/>
  <Override PartName="/ppt/media/image12.wmf" ContentType="image/x-wmf"/>
  <Override PartName="/ppt/media/CHIMES.WAV" ContentType="audio/x-wav"/>
  <Override PartName="/ppt/media/image49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5A3-3786-42F5-8314-1E3C69DD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1AC-95B1-4BBF-A290-5BB7CD75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FC5-9938-4F07-ABCF-29470683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9AA-19AA-452D-A62B-F3A0FCE8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02D-379C-4898-9695-A11223CA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84E-76AD-4A9E-9368-58BDFD45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DAE-42E9-4CFD-B628-87D10EAE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8A2-6F47-4FF0-894D-37861240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381-B282-406D-B786-839735DC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4F3-2008-4D0B-9443-D069C353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8E2-B577-4362-8132-ED81D95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D71-161C-4538-AFAA-A347E874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2F9C-840F-41EF-83E1-D4DCEDC68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audio" Target="../media/EXPLODE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CHIMES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CASHREG.WAV"/><Relationship Id="rId34" Type="http://schemas.openxmlformats.org/officeDocument/2006/relationships/audio" Target="../media/CASHREG.WAV"/><Relationship Id="rId35" Type="http://schemas.openxmlformats.org/officeDocument/2006/relationships/audio" Target="../media/CASHREG.WAV"/><Relationship Id="rId36" Type="http://schemas.openxmlformats.org/officeDocument/2006/relationships/audio" Target="../media/CASHREG.WAV"/><Relationship Id="rId37" Type="http://schemas.openxmlformats.org/officeDocument/2006/relationships/audio" Target="../media/CASHREG.WAV"/><Relationship Id="rId38" Type="http://schemas.openxmlformats.org/officeDocument/2006/relationships/audio" Target="../media/CASHREG.WAV"/><Relationship Id="rId39" Type="http://schemas.openxmlformats.org/officeDocument/2006/relationships/audio" Target="../media/CASHREG.WAV"/><Relationship Id="rId40" Type="http://schemas.openxmlformats.org/officeDocument/2006/relationships/audio" Target="../media/CASHREG.WAV"/><Relationship Id="rId41" Type="http://schemas.openxmlformats.org/officeDocument/2006/relationships/audio" Target="../media/CHIMES.WAV"/><Relationship Id="rId42" Type="http://schemas.openxmlformats.org/officeDocument/2006/relationships/audio" Target="../media/DRIVEBY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LASER.WAV"/><Relationship Id="rId47" Type="http://schemas.openxmlformats.org/officeDocument/2006/relationships/audio" Target="../media/DRIVEBY.WAV"/><Relationship Id="rId4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audio" Target="../media/doorbl07.wav"/><Relationship Id="rId10" Type="http://schemas.openxmlformats.org/officeDocument/2006/relationships/audio" Target="../media/doorbl07.wav"/><Relationship Id="rId11" Type="http://schemas.openxmlformats.org/officeDocument/2006/relationships/audio" Target="../media/doorbl07.wav"/><Relationship Id="rId12" Type="http://schemas.openxmlformats.org/officeDocument/2006/relationships/audio" Target="../media/children%20yeah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audio" Target="../media/doorbl07.wav"/><Relationship Id="rId18" Type="http://schemas.openxmlformats.org/officeDocument/2006/relationships/audio" Target="../media/slider22.wav"/><Relationship Id="rId19" Type="http://schemas.openxmlformats.org/officeDocument/2006/relationships/audio" Target="../media/slider22.wav"/><Relationship Id="rId20" Type="http://schemas.openxmlformats.org/officeDocument/2006/relationships/audio" Target="../media/doorbl07.wav"/><Relationship Id="rId21" Type="http://schemas.openxmlformats.org/officeDocument/2006/relationships/audio" Target="../media/doorbl07.wav"/><Relationship Id="rId22" Type="http://schemas.openxmlformats.org/officeDocument/2006/relationships/audio" Target="../media/doorbl07.wav"/><Relationship Id="rId23" Type="http://schemas.openxmlformats.org/officeDocument/2006/relationships/audio" Target="../media/doorbl07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44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5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6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47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8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9.wmf"/><Relationship Id="rId65" Type="http://schemas.openxmlformats.org/officeDocument/2006/relationships/audio" Target="../media/WHOOSH.WAV"/><Relationship Id="rId66" Type="http://schemas.openxmlformats.org/officeDocument/2006/relationships/audio" Target="../media/LASER.WAV"/><Relationship Id="rId67" Type="http://schemas.openxmlformats.org/officeDocument/2006/relationships/audio" Target="../media/CAMERA.WAV"/><Relationship Id="rId68" Type="http://schemas.openxmlformats.org/officeDocument/2006/relationships/audio" Target="../media/CAMERA.WAV"/><Relationship Id="rId69" Type="http://schemas.openxmlformats.org/officeDocument/2006/relationships/audio" Target="../media/DRIVEBY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CAMERA.WAV"/><Relationship Id="rId75" Type="http://schemas.openxmlformats.org/officeDocument/2006/relationships/audio" Target="../media/CAMERA.WAV"/><Relationship Id="rId76" Type="http://schemas.openxmlformats.org/officeDocument/2006/relationships/audio" Target="../media/CAMERA.WAV"/><Relationship Id="rId77" Type="http://schemas.openxmlformats.org/officeDocument/2006/relationships/audio" Target="../media/CAMERA.WAV"/><Relationship Id="rId78" Type="http://schemas.openxmlformats.org/officeDocument/2006/relationships/audio" Target="../media/CAMERA.WAV"/><Relationship Id="rId79" Type="http://schemas.openxmlformats.org/officeDocument/2006/relationships/audio" Target="../media/CAMERA.WAV"/><Relationship Id="rId80" Type="http://schemas.openxmlformats.org/officeDocument/2006/relationships/audio" Target="../media/CAMERA.WAV"/><Relationship Id="rId81" Type="http://schemas.openxmlformats.org/officeDocument/2006/relationships/audio" Target="../media/CAMERA.WAV"/><Relationship Id="rId82" Type="http://schemas.openxmlformats.org/officeDocument/2006/relationships/audio" Target="../media/DRIVEBY.WAV"/><Relationship Id="rId83" Type="http://schemas.openxmlformats.org/officeDocument/2006/relationships/audio" Target="../media/CAMERA.WAV"/><Relationship Id="rId84" Type="http://schemas.openxmlformats.org/officeDocument/2006/relationships/audio" Target="../media/CAMERA.WAV"/><Relationship Id="rId85" Type="http://schemas.openxmlformats.org/officeDocument/2006/relationships/audio" Target="../media/CAMERA.WAV"/><Relationship Id="rId86" Type="http://schemas.openxmlformats.org/officeDocument/2006/relationships/audio" Target="../media/CAMERA.WAV"/><Relationship Id="rId87" Type="http://schemas.openxmlformats.org/officeDocument/2006/relationships/audio" Target="../media/CAMERA.WAV"/><Relationship Id="rId88" Type="http://schemas.openxmlformats.org/officeDocument/2006/relationships/audio" Target="../media/CAMERA.WAV"/><Relationship Id="rId89" Type="http://schemas.openxmlformats.org/officeDocument/2006/relationships/audio" Target="../media/CAMERA.WAV"/><Relationship Id="rId90" Type="http://schemas.openxmlformats.org/officeDocument/2006/relationships/audio" Target="../media/CAMERA.WAV"/><Relationship Id="rId91" Type="http://schemas.openxmlformats.org/officeDocument/2006/relationships/audio" Target="../media/CAMERA.WAV"/><Relationship Id="rId92" Type="http://schemas.openxmlformats.org/officeDocument/2006/relationships/audio" Target="../media/EXPLODE.WAV"/><Relationship Id="rId93" Type="http://schemas.openxmlformats.org/officeDocument/2006/relationships/audio" Target="../media/EXPLODE.WAV"/><Relationship Id="rId94" Type="http://schemas.openxmlformats.org/officeDocument/2006/relationships/audio" Target="../media/LASER.WAV"/><Relationship Id="rId95" Type="http://schemas.openxmlformats.org/officeDocument/2006/relationships/audio" Target="../media/LASER.WAV"/><Relationship Id="rId96" Type="http://schemas.openxmlformats.org/officeDocument/2006/relationships/audio" Target="../media/LASER.WAV"/><Relationship Id="rId97" Type="http://schemas.openxmlformats.org/officeDocument/2006/relationships/audio" Target="../media/DRIVEBY.WAV"/><Relationship Id="rId98" Type="http://schemas.openxmlformats.org/officeDocument/2006/relationships/audio" Target="../media/DRIVEBY.WAV"/><Relationship Id="rId99" Type="http://schemas.openxmlformats.org/officeDocument/2006/relationships/audio" Target="../media/LASER.WAV"/><Relationship Id="rId100" Type="http://schemas.openxmlformats.org/officeDocument/2006/relationships/audio" Target="../media/LASER.WAV"/><Relationship Id="rId101" Type="http://schemas.openxmlformats.org/officeDocument/2006/relationships/audio" Target="../media/LASER.WAV"/><Relationship Id="rId102" Type="http://schemas.openxmlformats.org/officeDocument/2006/relationships/audio" Target="../media/GUNSHOT.WAV"/><Relationship Id="rId103" Type="http://schemas.openxmlformats.org/officeDocument/2006/relationships/audio" Target="../media/GUNSHOT.WAV"/><Relationship Id="rId104" Type="http://schemas.openxmlformats.org/officeDocument/2006/relationships/audio" Target="../media/CLAP.WAV"/><Relationship Id="rId10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wmf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zipby102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zipby102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byipee04.wav"/><Relationship Id="rId33" Type="http://schemas.openxmlformats.org/officeDocument/2006/relationships/audio" Target="../media/byipee04.wav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9.wmf"/><Relationship Id="rId23" Type="http://schemas.openxmlformats.org/officeDocument/2006/relationships/audio" Target="../media/WHOOSH.WAV"/><Relationship Id="rId24" Type="http://schemas.openxmlformats.org/officeDocument/2006/relationships/audio" Target="../media/kid%20yeah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DRIVEBY.WAV"/><Relationship Id="rId31" Type="http://schemas.openxmlformats.org/officeDocument/2006/relationships/audio" Target="../media/child%20yikes.wav"/><Relationship Id="rId32" Type="http://schemas.openxmlformats.org/officeDocument/2006/relationships/audio" Target="../media/children%20yeah.wav"/><Relationship Id="rId33" Type="http://schemas.openxmlformats.org/officeDocument/2006/relationships/audio" Target="../media/children%20yeah.wav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84.wmf"/><Relationship Id="rId43" Type="http://schemas.openxmlformats.org/officeDocument/2006/relationships/audio" Target="../media/WHOOSH.WAV"/><Relationship Id="rId44" Type="http://schemas.openxmlformats.org/officeDocument/2006/relationships/audio" Target="../media/LASER.WAV"/><Relationship Id="rId45" Type="http://schemas.openxmlformats.org/officeDocument/2006/relationships/audio" Target="../media/hzipup01.wav"/><Relationship Id="rId46" Type="http://schemas.openxmlformats.org/officeDocument/2006/relationships/audio" Target="../media/caralarmoff.wav"/><Relationship Id="rId47" Type="http://schemas.openxmlformats.org/officeDocument/2006/relationships/audio" Target="../media/caralarmoff.wav"/><Relationship Id="rId48" Type="http://schemas.openxmlformats.org/officeDocument/2006/relationships/audio" Target="../media/hzipup01.wav"/><Relationship Id="rId49" Type="http://schemas.openxmlformats.org/officeDocument/2006/relationships/audio" Target="../media/hzipup01.wav"/><Relationship Id="rId50" Type="http://schemas.openxmlformats.org/officeDocument/2006/relationships/audio" Target="../media/hzipup01.wav"/><Relationship Id="rId51" Type="http://schemas.openxmlformats.org/officeDocument/2006/relationships/audio" Target="../media/hzipup01.wav"/><Relationship Id="rId52" Type="http://schemas.openxmlformats.org/officeDocument/2006/relationships/audio" Target="../media/hzipup01.wav"/><Relationship Id="rId53" Type="http://schemas.openxmlformats.org/officeDocument/2006/relationships/audio" Target="../media/hzipup01.wav"/><Relationship Id="rId54" Type="http://schemas.openxmlformats.org/officeDocument/2006/relationships/audio" Target="../media/child%20yikes.wav"/><Relationship Id="rId55" Type="http://schemas.openxmlformats.org/officeDocument/2006/relationships/audio" Target="../media/children%20yeah.wav"/><Relationship Id="rId56" Type="http://schemas.openxmlformats.org/officeDocument/2006/relationships/audio" Target="../media/highchime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LASER.WAV"/><Relationship Id="rId61" Type="http://schemas.openxmlformats.org/officeDocument/2006/relationships/audio" Target="../media/highchime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byipee04.wav"/><Relationship Id="rId6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9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5.wmf"/><Relationship Id="rId41" Type="http://schemas.openxmlformats.org/officeDocument/2006/relationships/audio" Target="../media/highchime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LASER.WAV"/><Relationship Id="rId49" Type="http://schemas.openxmlformats.org/officeDocument/2006/relationships/audio" Target="../media/LASER.WAV"/><Relationship Id="rId50" Type="http://schemas.openxmlformats.org/officeDocument/2006/relationships/audio" Target="../media/LASER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yabba-dabba-do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30495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30495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4920" y="167652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80880" y="2666880"/>
            <a:ext cx="3200400" cy="2361960"/>
            <a:chOff x="380880" y="2666880"/>
            <a:chExt cx="3200400" cy="2361960"/>
          </a:xfrm>
        </p:grpSpPr>
        <p:sp>
          <p:nvSpPr>
            <p:cNvPr id="47" name=""/>
            <p:cNvSpPr/>
            <p:nvPr/>
          </p:nvSpPr>
          <p:spPr>
            <a:xfrm>
              <a:off x="380880" y="36572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880" y="41144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45716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50288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880" y="32000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55000" y="281916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9920" y="266688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44200" y="266688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" name=""/>
          <p:cNvGraphicFramePr/>
          <p:nvPr/>
        </p:nvGraphicFramePr>
        <p:xfrm>
          <a:off x="1905120" y="1676520"/>
          <a:ext cx="116820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676520"/>
                    <a:ext cx="116820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808280" y="2133720"/>
          <a:ext cx="1460520" cy="63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8280" y="2133720"/>
                    <a:ext cx="146052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80880" y="31240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581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0384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4956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85960" y="3200400"/>
          <a:ext cx="184788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5960" y="3200400"/>
                    <a:ext cx="18478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666880" y="3276720"/>
          <a:ext cx="7891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3276720"/>
                    <a:ext cx="789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914400" y="3657600"/>
          <a:ext cx="1792440" cy="57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3657600"/>
                    <a:ext cx="1792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666880" y="3733920"/>
          <a:ext cx="573120" cy="36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66880" y="373392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885960" y="4114800"/>
          <a:ext cx="1847880" cy="573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85960" y="4114800"/>
                    <a:ext cx="18478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666880" y="4191120"/>
          <a:ext cx="573120" cy="360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66880" y="419112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85960" y="4572000"/>
          <a:ext cx="1847880" cy="533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85960" y="4572000"/>
                    <a:ext cx="1847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666880" y="4648320"/>
          <a:ext cx="57312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66880" y="4648320"/>
                    <a:ext cx="573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4648320" y="1752480"/>
            <a:ext cx="2743200" cy="2743200"/>
            <a:chOff x="4648320" y="1752480"/>
            <a:chExt cx="2743200" cy="2743200"/>
          </a:xfrm>
        </p:grpSpPr>
        <p:grpSp>
          <p:nvGrpSpPr>
            <p:cNvPr id="80" name=""/>
            <p:cNvGrpSpPr/>
            <p:nvPr/>
          </p:nvGrpSpPr>
          <p:grpSpPr>
            <a:xfrm>
              <a:off x="4648320" y="1752480"/>
              <a:ext cx="2743200" cy="2743200"/>
              <a:chOff x="4648320" y="1752480"/>
              <a:chExt cx="2743200" cy="2743200"/>
            </a:xfrm>
          </p:grpSpPr>
          <p:sp>
            <p:nvSpPr>
              <p:cNvPr id="81" name=""/>
              <p:cNvSpPr/>
              <p:nvPr/>
            </p:nvSpPr>
            <p:spPr>
              <a:xfrm>
                <a:off x="4648320" y="4495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48320" y="41907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48320" y="38858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648320" y="3581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648320" y="32763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48320" y="29714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48320" y="2666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48320" y="23619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48320" y="20570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48320" y="1752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64832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324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816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6272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764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256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712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204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696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152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19720" y="1523880"/>
            <a:ext cx="3200400" cy="3200400"/>
            <a:chOff x="4419720" y="1523880"/>
            <a:chExt cx="3200400" cy="3200400"/>
          </a:xfrm>
        </p:grpSpPr>
        <p:sp>
          <p:nvSpPr>
            <p:cNvPr id="102" name=""/>
            <p:cNvSpPr/>
            <p:nvPr/>
          </p:nvSpPr>
          <p:spPr>
            <a:xfrm flipV="1">
              <a:off x="4952880" y="152388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9720" y="327636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876920" y="3809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32004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59092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19810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4" idx="7"/>
          </p:cNvCxnSpPr>
          <p:nvPr/>
        </p:nvCxnSpPr>
        <p:spPr>
          <a:xfrm flipV="1">
            <a:off x="5006880" y="1904400"/>
            <a:ext cx="4137840" cy="1928160"/>
          </a:xfrm>
          <a:prstGeom prst="curvedConnector3">
            <a:avLst>
              <a:gd name="adj1" fmla="val 25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33640" y="1219320"/>
          <a:ext cx="312876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219320"/>
                    <a:ext cx="3128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133720" y="1981080"/>
          <a:ext cx="298584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81080"/>
                    <a:ext cx="2985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362320" y="2819520"/>
          <a:ext cx="236376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819520"/>
                    <a:ext cx="2363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24280" y="2819520"/>
          <a:ext cx="156528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2819520"/>
                    <a:ext cx="15652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25600" y="2057400"/>
          <a:ext cx="255888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057400"/>
                    <a:ext cx="255888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952880" y="1981080"/>
          <a:ext cx="2414880" cy="16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81080"/>
                    <a:ext cx="24148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514600" y="3809880"/>
          <a:ext cx="2989440" cy="16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809880"/>
                    <a:ext cx="298944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124080" y="1981080"/>
          <a:ext cx="17877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1981080"/>
                    <a:ext cx="1787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124080" y="2743200"/>
          <a:ext cx="178776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2743200"/>
                    <a:ext cx="1787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095880" y="1828800"/>
          <a:ext cx="175284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828800"/>
                    <a:ext cx="1752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638680" y="2819520"/>
          <a:ext cx="71136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2819520"/>
                    <a:ext cx="711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24480" y="2819520"/>
          <a:ext cx="80028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2819520"/>
                    <a:ext cx="800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121200" y="5562720"/>
            <a:ext cx="1523880" cy="761760"/>
          </a:xfrm>
          <a:prstGeom prst="ellipse">
            <a:avLst/>
          </a:prstGeom>
          <a:solidFill>
            <a:srgbClr val="ffff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1680" y="121932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lve each equation and check for extraneous solu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5360" y="1752480"/>
          <a:ext cx="3618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752480"/>
                    <a:ext cx="3618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444680" y="2666880"/>
          <a:ext cx="175248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4680" y="2666880"/>
                    <a:ext cx="175248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349800" y="2666880"/>
          <a:ext cx="1511280" cy="85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9800" y="2666880"/>
                    <a:ext cx="151128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901880" y="3429000"/>
          <a:ext cx="101736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1880" y="3429000"/>
                    <a:ext cx="1017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968560" y="3276720"/>
          <a:ext cx="97632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68560" y="3276720"/>
                    <a:ext cx="9763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596960" y="3886200"/>
          <a:ext cx="690480" cy="40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96960" y="3886200"/>
                    <a:ext cx="6904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959280" y="3886200"/>
          <a:ext cx="690480" cy="40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9280" y="3886200"/>
                    <a:ext cx="6904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96960" y="43434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87680" y="4419720"/>
          <a:ext cx="361800" cy="484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87680" y="4419720"/>
                    <a:ext cx="361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92600" y="4267080"/>
          <a:ext cx="9745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2600" y="4267080"/>
                    <a:ext cx="974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521000" y="2743200"/>
          <a:ext cx="1555560" cy="657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21000" y="2743200"/>
                    <a:ext cx="15555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227320" y="2286000"/>
          <a:ext cx="649080" cy="485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27320" y="2286000"/>
                    <a:ext cx="649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49800" y="2286000"/>
          <a:ext cx="649080" cy="485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49800" y="2286000"/>
                    <a:ext cx="649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835200" y="27432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4880" y="2895480"/>
          <a:ext cx="1473120" cy="462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44880" y="2895480"/>
                    <a:ext cx="14731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807000" y="3429000"/>
          <a:ext cx="936360" cy="457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07000" y="3429000"/>
                    <a:ext cx="936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68760" y="3429000"/>
          <a:ext cx="69048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68760" y="3429000"/>
                    <a:ext cx="69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282760" y="3809880"/>
          <a:ext cx="614520" cy="487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282760" y="3809880"/>
                    <a:ext cx="614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68760" y="3809880"/>
          <a:ext cx="614520" cy="4874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568760" y="3809880"/>
                    <a:ext cx="614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30680" y="4419720"/>
          <a:ext cx="934920" cy="485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730680" y="4419720"/>
                    <a:ext cx="9349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68760" y="4419720"/>
          <a:ext cx="898560" cy="485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568760" y="4419720"/>
                    <a:ext cx="8985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11360" y="4952880"/>
          <a:ext cx="3306960" cy="735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511360" y="4952880"/>
                    <a:ext cx="33069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349800" y="5105520"/>
          <a:ext cx="401400" cy="4032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349800" y="5105520"/>
                    <a:ext cx="401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645080" y="5105520"/>
          <a:ext cx="401760" cy="403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645080" y="5105520"/>
                    <a:ext cx="401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0680" y="5029200"/>
          <a:ext cx="644400" cy="4842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730680" y="5029200"/>
                    <a:ext cx="6444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950000" y="5029200"/>
          <a:ext cx="684000" cy="4842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950000" y="5029200"/>
                    <a:ext cx="684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49800" y="5715000"/>
          <a:ext cx="1089000" cy="4842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49800" y="5715000"/>
                    <a:ext cx="1089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568760" y="5715000"/>
          <a:ext cx="1130400" cy="4842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568760" y="5715000"/>
                    <a:ext cx="11304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491080" y="1828800"/>
          <a:ext cx="2840040" cy="65736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491080" y="1828800"/>
                    <a:ext cx="28400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830920" y="2362320"/>
          <a:ext cx="2295360" cy="65700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830920" y="2362320"/>
                    <a:ext cx="2295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245280" y="3048120"/>
          <a:ext cx="1940040" cy="4633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245280" y="3048120"/>
                    <a:ext cx="19400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822636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379000" y="3048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559480" y="3505320"/>
          <a:ext cx="2917800" cy="6570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559480" y="3505320"/>
                    <a:ext cx="29178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207120" y="4114800"/>
          <a:ext cx="2295360" cy="65736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207120" y="4114800"/>
                    <a:ext cx="2295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588000" y="4800600"/>
          <a:ext cx="1900440" cy="4618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588000" y="4800600"/>
                    <a:ext cx="19004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531280" y="48006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531280" y="48006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lving by Completing the 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498760" y="1981080"/>
          <a:ext cx="106056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1981080"/>
                    <a:ext cx="106056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145040" y="1981080"/>
          <a:ext cx="1062000" cy="13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5040" y="1981080"/>
                    <a:ext cx="106200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981080" y="3352680"/>
          <a:ext cx="2346480" cy="15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352680"/>
                    <a:ext cx="234648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498760" y="4929120"/>
          <a:ext cx="1616040" cy="131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8760" y="4929120"/>
                    <a:ext cx="161604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69960" y="1981080"/>
          <a:ext cx="3629160" cy="131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9960" y="1981080"/>
                    <a:ext cx="362916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122480" y="1219320"/>
          <a:ext cx="3286080" cy="63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22480" y="1219320"/>
                    <a:ext cx="32860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327560" y="3429000"/>
          <a:ext cx="720720" cy="131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27560" y="3429000"/>
                    <a:ext cx="7207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098960" y="4929120"/>
          <a:ext cx="847800" cy="1319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98960" y="4929120"/>
                    <a:ext cx="84780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943600" y="1447920"/>
          <a:ext cx="2465280" cy="15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43600" y="1447920"/>
                    <a:ext cx="2465280" cy="15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334120" y="3657600"/>
          <a:ext cx="1406520" cy="60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4120" y="3657600"/>
                    <a:ext cx="1406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861240" y="3178080"/>
          <a:ext cx="2163600" cy="1560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61240" y="3178080"/>
                    <a:ext cx="216360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length of the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2438280"/>
            <a:ext cx="2104920" cy="2859120"/>
            <a:chOff x="457200" y="2438280"/>
            <a:chExt cx="2104920" cy="2859120"/>
          </a:xfrm>
        </p:grpSpPr>
        <p:graphicFrame>
          <p:nvGraphicFramePr>
            <p:cNvPr id="235" name=""/>
            <p:cNvGraphicFramePr/>
            <p:nvPr/>
          </p:nvGraphicFramePr>
          <p:xfrm>
            <a:off x="457200" y="3352680"/>
            <a:ext cx="1166760" cy="42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352680"/>
                      <a:ext cx="116676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 flipH="1">
              <a:off x="761400" y="2438280"/>
              <a:ext cx="1447560" cy="2438640"/>
            </a:xfrm>
            <a:prstGeom prst="rtTriangl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081080" y="4876920"/>
            <a:ext cx="985680" cy="42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81080" y="4876920"/>
                      <a:ext cx="98568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209680" y="3505320"/>
            <a:ext cx="352440" cy="51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9680" y="3505320"/>
                      <a:ext cx="352440" cy="51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"/>
            <p:cNvSpPr/>
            <p:nvPr/>
          </p:nvSpPr>
          <p:spPr>
            <a:xfrm>
              <a:off x="685800" y="2514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3" name=""/>
          <p:cNvGraphicFramePr/>
          <p:nvPr/>
        </p:nvGraphicFramePr>
        <p:xfrm>
          <a:off x="4114800" y="2209680"/>
          <a:ext cx="2575080" cy="65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209680"/>
                    <a:ext cx="25750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114800" y="2895480"/>
          <a:ext cx="278748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2895480"/>
                    <a:ext cx="27874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114800" y="3505320"/>
          <a:ext cx="2962440" cy="65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3505320"/>
                    <a:ext cx="29624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09880" y="4038480"/>
          <a:ext cx="99720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9880" y="4038480"/>
                    <a:ext cx="997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5880" y="4038480"/>
          <a:ext cx="997200" cy="5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4038480"/>
                    <a:ext cx="997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962520" y="4572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029200" y="4495680"/>
          <a:ext cx="1920960" cy="65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4495680"/>
                    <a:ext cx="1920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952880" y="5105520"/>
          <a:ext cx="2095560" cy="738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5105520"/>
                    <a:ext cx="20955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7162920" y="5257800"/>
          <a:ext cx="104292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62920" y="5257800"/>
                    <a:ext cx="1042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91440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and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28600" y="2476440"/>
          <a:ext cx="57150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76440"/>
                    <a:ext cx="571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0" y="3543480"/>
          <a:ext cx="440676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43480"/>
                    <a:ext cx="44067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122720" y="3619440"/>
          <a:ext cx="265284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6194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477120" y="3581280"/>
          <a:ext cx="160488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581280"/>
                    <a:ext cx="1604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8077320" y="3657600"/>
          <a:ext cx="106668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7320" y="3657600"/>
                    <a:ext cx="10666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676520" y="2781360"/>
          <a:ext cx="139068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2781360"/>
                    <a:ext cx="13906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114800" y="2781360"/>
          <a:ext cx="1133640" cy="51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2781360"/>
                    <a:ext cx="1133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62080" y="1866960"/>
          <a:ext cx="3316320" cy="7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2080" y="1866960"/>
                    <a:ext cx="3316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447920" y="3886200"/>
          <a:ext cx="691920" cy="51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47920" y="3886200"/>
                    <a:ext cx="691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124080" y="3886200"/>
          <a:ext cx="73656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3886200"/>
                    <a:ext cx="736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5105520" y="3809880"/>
          <a:ext cx="466560" cy="563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05520" y="3809880"/>
                    <a:ext cx="466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5943600" y="3809880"/>
          <a:ext cx="70812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43600" y="3809880"/>
                    <a:ext cx="7081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04920" y="4952880"/>
          <a:ext cx="3709800" cy="1481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4920" y="4952880"/>
                    <a:ext cx="370980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87240" y="5029200"/>
          <a:ext cx="385920" cy="519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7240" y="5029200"/>
                    <a:ext cx="385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324320" y="5029200"/>
          <a:ext cx="692280" cy="519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24320" y="5029200"/>
                    <a:ext cx="692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371600" y="5029200"/>
          <a:ext cx="690480" cy="519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71600" y="5029200"/>
                    <a:ext cx="6904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360520" y="5029200"/>
          <a:ext cx="432000" cy="519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360520" y="5029200"/>
                    <a:ext cx="432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200400" y="5029200"/>
          <a:ext cx="387360" cy="519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200400" y="50292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3962520" y="4876920"/>
          <a:ext cx="2442960" cy="1481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62520" y="4876920"/>
                    <a:ext cx="24429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5446800" y="5029200"/>
          <a:ext cx="430200" cy="519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446800" y="502920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416640" y="4876920"/>
          <a:ext cx="2727360" cy="1520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16640" y="4876920"/>
                    <a:ext cx="272736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04920" y="838080"/>
            <a:ext cx="8839080" cy="550800"/>
            <a:chOff x="304920" y="838080"/>
            <a:chExt cx="8839080" cy="550800"/>
          </a:xfrm>
        </p:grpSpPr>
        <p:sp>
          <p:nvSpPr>
            <p:cNvPr id="306" name=""/>
            <p:cNvSpPr/>
            <p:nvPr/>
          </p:nvSpPr>
          <p:spPr>
            <a:xfrm>
              <a:off x="304920" y="838080"/>
              <a:ext cx="88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ine, cosine, and tangent of    A and    C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6248520" y="91404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91404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7620120" y="914040"/>
            <a:ext cx="45720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0120" y="91404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1" name=""/>
          <p:cNvGrpSpPr/>
          <p:nvPr/>
        </p:nvGrpSpPr>
        <p:grpSpPr>
          <a:xfrm>
            <a:off x="0" y="1371600"/>
            <a:ext cx="4038480" cy="1587240"/>
            <a:chOff x="0" y="1371600"/>
            <a:chExt cx="4038480" cy="1587240"/>
          </a:xfrm>
        </p:grpSpPr>
        <p:sp>
          <p:nvSpPr>
            <p:cNvPr id="312" name=""/>
            <p:cNvSpPr/>
            <p:nvPr/>
          </p:nvSpPr>
          <p:spPr>
            <a:xfrm>
              <a:off x="838080" y="1828440"/>
              <a:ext cx="2819520" cy="68544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880" y="1447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7200" y="23619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2438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520" y="19047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2880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33720" y="16761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0" name=""/>
          <p:cNvGraphicFramePr/>
          <p:nvPr/>
        </p:nvGraphicFramePr>
        <p:xfrm>
          <a:off x="4070520" y="1295280"/>
          <a:ext cx="3352680" cy="11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0520" y="129528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146480" y="2362320"/>
          <a:ext cx="34210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6480" y="236232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423200" y="1295280"/>
          <a:ext cx="954000" cy="105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23200" y="1295280"/>
                    <a:ext cx="95400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7804080" y="1905120"/>
          <a:ext cx="51300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4080" y="190512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7532640" y="2362320"/>
          <a:ext cx="952560" cy="105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32640" y="236232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7913520" y="2971800"/>
          <a:ext cx="513000" cy="40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13520" y="29718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403880" y="3429000"/>
          <a:ext cx="2906640" cy="113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03880" y="3429000"/>
                    <a:ext cx="29066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7532640" y="3429000"/>
          <a:ext cx="952560" cy="105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2640" y="34290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8001000" y="4038480"/>
          <a:ext cx="338040" cy="408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4038480"/>
                    <a:ext cx="33804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17640" y="4114800"/>
          <a:ext cx="3317760" cy="11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640" y="4114800"/>
                    <a:ext cx="33177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352680" y="4114800"/>
          <a:ext cx="954360" cy="1058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4114800"/>
                    <a:ext cx="9543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733920" y="4724280"/>
          <a:ext cx="512640" cy="408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33920" y="4724280"/>
                    <a:ext cx="51264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7640" y="5345280"/>
          <a:ext cx="3385800" cy="113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7640" y="5345280"/>
                    <a:ext cx="3385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386160" y="5345280"/>
          <a:ext cx="952560" cy="105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86160" y="534528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3767040" y="5954760"/>
          <a:ext cx="513000" cy="407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67040" y="595476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105520" y="4572000"/>
          <a:ext cx="2871720" cy="1131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105520" y="4572000"/>
                    <a:ext cx="28717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7962840" y="4572000"/>
          <a:ext cx="952560" cy="10587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962840" y="45720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8344080" y="5181480"/>
          <a:ext cx="512640" cy="4082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344080" y="5181480"/>
                    <a:ext cx="51264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828800"/>
            <a:ext cx="9144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Times New Roman"/>
              </a:rPr>
              <a:t>Chapter 12 Review Pg. 766 #1-24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31T20:19:25Z</dcterms:modified>
  <cp:revision>62</cp:revision>
  <dc:subject/>
  <dc:title>No Slide Title</dc:title>
</cp:coreProperties>
</file>